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4BA-7293-4876-BD7F-60D30868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7B7-0AB9-486D-B6A8-890F5E5B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FE3-DF91-44E7-9D45-EFD02738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3FE-217B-4683-A81C-6964BF6B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407F-CDB8-4EF1-81A7-6A2598B3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CE76-A183-4E5E-A139-97C6F026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4104-BAB8-4377-A1B9-7AA80566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0CE7-B548-419E-B29A-46D8ED05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BEEC-7CCF-4DB0-8A15-BF02F0F9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6ADD-7E2D-46CA-BE37-D7F946FE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85F8-9FEA-45E4-9801-2827C3E2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B03-5592-48EB-BE26-FF792D77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5F61-DAA3-4C5F-A1F4-E20E0ACF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2649-D0E3-40EB-9BBA-B4B08430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A779-2D0C-43B9-8A9E-0A72E70D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A538-C261-4E38-A225-4797DA74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76BC-405C-4906-9EA0-A778330A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4CB-83FB-4E8D-8247-C2D684F5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5ED-EA4F-4269-815E-1CDC625C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5CE-03C4-43D2-8E22-E718A524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198-0BC2-4012-A569-08A09C92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A81-2375-4AE9-BE59-B929B23D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CCE-6F33-4D40-92D6-73EB2EB1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7A3-818E-4388-BA9B-AF78C4A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19B0-5747-44A3-8097-51A101432EB6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AD3E-208E-4927-B9A3-0BC925F02C58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Squad/Support Hardware/Intel ProSet Session 1 of 1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Troubleshooting Internet Connectivity for PC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sk selected participants to share some issues they faced when practicing  connecting to the wireles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scuss how they handled these issu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 (insert answers here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use Intel ProSet to configure my computer’s wireless setting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steps I need to follow to connect to the school’s wireless signa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are going to discuss the necessary steps to successfully reconfigure Internet setting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ometimes school laptop users experience difficulty when they lose their connection to the school’s Internet.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s is an inconvenience to both teachers and studen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Watch me as I show you how to connect to the wireless network.”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1: From the Start Menu, in ‘All Programs’, open the Intel Proset/Wireless program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2: Click on the ‘ADD’ button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3: Name the profile “your school name and number”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4: Enter your schools SSID cod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5: Intel Proset will indicate that you must enter the Security Settings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6: Change the Encryption Level to ‘64’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7: Enter the 10 digit WEP code for your school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tep 8: Hit ‘Next’. You will see that you are now connected to your wireless network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uide participants through the process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Now it is your turn to try it.” Follow the steps to connect to another VLAN in your building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Tell participants what they will be doing during their work time, and how much time they have: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“Take the next 15 minutes to reconfigure the wireless settings on your laptop to these settings”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Profile Name: IS162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SID: DOETWAC00M001vl60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EP Key:  162D321002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Participants will...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1: Open Intel Prose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2: Create a new profile and name it “My School”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3: Enter the SSID cod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4: Enter the WEP Ke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5: Establish a connection to the Internet.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11-17T17:47:50Z</dcterms:modified>
  <cp:revision>3</cp:revision>
  <dc:subject/>
  <dc:title>Workshop Title</dc:title>
</cp:coreProperties>
</file>